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5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7.jpeg" ContentType="image/jpeg"/>
  <Override PartName="/ppt/media/image19.jpeg" ContentType="image/jpeg"/>
  <Override PartName="/ppt/media/image6.png" ContentType="image/png"/>
  <Override PartName="/ppt/media/image11.png" ContentType="image/png"/>
  <Override PartName="/ppt/media/image9.jpeg" ContentType="image/jpeg"/>
  <Override PartName="/ppt/media/image30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797-201D-4678-9568-FD61E7B3F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308664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485-4271-410B-AAEA-E02E717B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EFA2-CFFA-4CB1-963C-D9060A71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708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0100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708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0100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13DC-1C28-43A3-8F87-E49B438B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A53C-6861-479A-9C76-47C8F7E6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97632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7429-CB83-4F13-93C3-7DE5E2B4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9BB5-6E8E-43CC-AF53-47D854CE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207F-9FF6-4E6D-8ADE-56AB7F86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7C45-58AE-4A7D-8D22-51763DE8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160" y="12600"/>
            <a:ext cx="83818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4E5A-DB09-4CF0-9350-0D106620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F108F-421F-4288-A6E1-67964DA0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97632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24B6-A97A-4ED1-8C12-B8944C78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832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4AC9-91B8-4F78-A7E5-E3F5AAB0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3438-BDA3-4FD4-AD50-755E38BF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308664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0086-2DF0-4DD0-8332-52DDCDD45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832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A6A6-58F8-47B6-AE67-B360A074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6708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01000" y="97632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6708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01000" y="3086640"/>
            <a:ext cx="269856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812D-A102-480B-980C-2FDE3A6F4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0AFE-6FC5-4106-99AC-D74C3C2F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84AA-EA85-4939-8DFA-491C3CF6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21AB-9A25-40BB-A24E-87FA61FC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160" y="12600"/>
            <a:ext cx="83818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64A4-A0E6-459E-811D-D56DC496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CDA-7FC7-4CAA-8C13-1C5FA850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308664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49C8-C7DF-4902-BC3E-4544253A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976320"/>
            <a:ext cx="409032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3086640"/>
            <a:ext cx="8381880" cy="192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BA75-2A45-463A-B6F9-4D64A8B3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976320"/>
            <a:ext cx="8381880" cy="403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1" marL="891000" indent="-39240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299600" indent="-40680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3" marL="1994400" indent="-4647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4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5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6" marL="2572560" indent="-46512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5A07-A0AB-4A67-9765-D46AEA3F489E}" type="slidenum">
              <a:rPr b="0" lang="ar-EG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9120" y="403200"/>
            <a:ext cx="867096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15192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857640" y="65368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1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150B-496B-48AD-B065-42A61096A1C8}" type="slidenum">
              <a:rPr b="0" lang="ar-EG" sz="11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1" marL="457200" indent="0" algn="ctr"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901800" algn="ctr">
              <a:lnSpc>
                <a:spcPct val="80000"/>
              </a:lnSpc>
              <a:spcBef>
                <a:spcPts val="1400"/>
              </a:spcBef>
              <a:buClr>
                <a:srgbClr val="ccffff"/>
              </a:buClr>
              <a:buSzPct val="9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3" marL="1371600" indent="173160" algn="ctr">
              <a:lnSpc>
                <a:spcPct val="80000"/>
              </a:lnSpc>
              <a:spcBef>
                <a:spcPts val="1400"/>
              </a:spcBef>
              <a:buClr>
                <a:srgbClr val="ccff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4" marL="1828800" indent="299880" algn="ctr">
              <a:lnSpc>
                <a:spcPct val="80000"/>
              </a:lnSpc>
              <a:spcBef>
                <a:spcPts val="1400"/>
              </a:spcBef>
              <a:buClr>
                <a:srgbClr val="ccffff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5" marL="1828800" indent="29988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6" marL="1828800" indent="299880">
              <a:spcBef>
                <a:spcPts val="700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Franklin Gothic Medium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upernova.sourceforge.net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685440"/>
            <a:ext cx="867096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pernova Programming Language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         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Version  1.3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Free-Open Source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br>
              <a:rPr sz="4400"/>
            </a:b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2360" y="5943240"/>
            <a:ext cx="86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Franklin Gothic Medium"/>
              </a:rPr>
              <a:t>2009-2010, Mahmoud Fayed (msfclipper@yahoo.com)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nguage Design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975960"/>
            <a:ext cx="8610480" cy="628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-501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With respect to the design of the languag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And unlike other programming language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Which uses Context-Free Grammar,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Supernova  use a Context-Sensitive Grammar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To get a language more near to our human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Language as much as we can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Language Design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8534520" cy="552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– Loop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228600" y="2036880"/>
            <a:ext cx="4191120" cy="3601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48320" y="2106720"/>
            <a:ext cx="419076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utdown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295280" y="1523880"/>
            <a:ext cx="6400800" cy="4876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uestion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7772400" cy="4724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nter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7772400" cy="458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762120" y="1465200"/>
            <a:ext cx="7238880" cy="5164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th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38080" y="1600200"/>
            <a:ext cx="7162920" cy="5100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unter-Range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731520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ynamic Objects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914400" y="1447920"/>
            <a:ext cx="7086600" cy="502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eck Answer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7391520" cy="502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Keynote Roadmap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160" y="975960"/>
            <a:ext cx="8381880" cy="587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ntroduction to Supernova PL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ello World Program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pernova and Human Language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nstructions and Rule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ulti-Language Source cod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Language Design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ample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sing Notepad++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pernova developed using PWC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pernova Resources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mmary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-Statements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25336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2514600" y="1447920"/>
            <a:ext cx="4724280" cy="4952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-Time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1523880" y="1905120"/>
            <a:ext cx="5943600" cy="4516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lash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85800" y="1681200"/>
            <a:ext cx="7620120" cy="5041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elivery Application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1219320" y="1752480"/>
            <a:ext cx="6705360" cy="48736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Delivery Application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838080" y="1676520"/>
            <a:ext cx="7391520" cy="502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Sound-Recorder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143000" y="1828800"/>
            <a:ext cx="6019920" cy="4791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Movie-Player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33520" y="976320"/>
            <a:ext cx="41148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598840" indent="-47016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85800" y="1752480"/>
            <a:ext cx="7772400" cy="4443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COM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774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914400" y="1600200"/>
            <a:ext cx="7391520" cy="4959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ample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ADODB Sample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295280" y="1523880"/>
            <a:ext cx="6172200" cy="5141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Using Notepad++ 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774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38080" y="1066680"/>
            <a:ext cx="7772400" cy="5532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troduction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975960"/>
            <a:ext cx="8381880" cy="622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e Supernova programming language is a modern scripting language and the first one presents the concept of programming with direct Fiction Description using clear subset of pure Human Language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e programs are one or more of paragraphs (collection of statements)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igh level of writing flexibility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ulti-Language source code (Arabic, English &amp; Mixed)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Instructions execution model is Event-Driven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Hybrid Implementation (Compiler &amp; Virtual Machine)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2240"/>
            <a:ext cx="89154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ernova developed using PWCT </a:t>
            </a:r>
            <a:br>
              <a:rPr sz="4000"/>
            </a:b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4114800" cy="774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57200" y="990720"/>
            <a:ext cx="8001000" cy="5779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pernova Resources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975960"/>
            <a:ext cx="8381880" cy="509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pernova web site on sourceforge.ne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lvl="1" marL="9000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ccff"/>
                </a:solidFill>
                <a:uFillTx/>
                <a:latin typeface="Franklin Gothic Medium"/>
                <a:hlinkClick r:id="rId2"/>
              </a:rPr>
              <a:t>http://supernova.sourceforge.net</a:t>
            </a:r>
            <a:endParaRPr b="0" lang="en-US" sz="4000" spc="-1" strike="noStrike">
              <a:solidFill>
                <a:srgbClr val="ffff00"/>
              </a:solidFill>
              <a:latin typeface="Franklin Gothic Medium"/>
            </a:endParaRPr>
          </a:p>
          <a:p>
            <a:pPr lvl="1" marL="9000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312920" indent="-41112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News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312920" indent="-41112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Download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312920" indent="-411120">
              <a:lnSpc>
                <a:spcPct val="80000"/>
              </a:lnSpc>
              <a:spcBef>
                <a:spcPts val="1400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Documentation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3129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  <a:p>
            <a:pPr lvl="2" marL="131292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580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ree-Open Sourc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Programming With Fiction Description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Writing Flexibility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mall Size (Less than 15 MByte)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Multi-Language Source code (Arabic &amp; English)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Build GUI Application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stribute Executable Applications (*.EXE)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Extension (calling DLL Functions &amp; using COM )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70000"/>
              </a:lnSpc>
              <a:spcBef>
                <a:spcPts val="15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eveloped using PWC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12600"/>
            <a:ext cx="838188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Hello World Program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976320"/>
            <a:ext cx="8610480" cy="77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1480" indent="-501480">
              <a:lnSpc>
                <a:spcPct val="80000"/>
              </a:lnSpc>
              <a:spcBef>
                <a:spcPts val="14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I want window and the window title is Hello World.</a:t>
            </a:r>
            <a:endParaRPr b="0" lang="en-US" sz="2800" spc="-1" strike="noStrike">
              <a:solidFill>
                <a:srgbClr val="ffff00"/>
              </a:solidFill>
              <a:latin typeface="Franklin Gothic Medium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52480" y="205740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ernova and Human Languages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458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upernova is a language tends to be more near to our human language where we do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Programming With Fiction Description (PWFD)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using subset of Pure human languag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e human language is VERY big and contains many words so we use  a subset of it to **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Reduce the Complexity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** of the problem and to **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Get Acceptable Performance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** as much as we can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upernova and Human Languages</a:t>
            </a:r>
            <a:endParaRPr b="1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656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01480" indent="-501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nlike other programming languages which is based on statements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Supernova is based on Paragraphs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 which contains many statements packed together using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ignored words like (the, and,...etc)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-50148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For example the two commands:-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(1) I want window  (2) Window title is hello.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May be connected together to form another big statement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I want window and the window title is hello.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50148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structions and Rules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976320"/>
            <a:ext cx="8381880" cy="461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Language statements has a rule describe its structure and help users to use and remember the statement in the future.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Rule: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PVC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[P] =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Pronoun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  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[V] =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Verb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[C] =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Clas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  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Statement =   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I Want Window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nstructions and Rules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975960"/>
            <a:ext cx="8381880" cy="473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Franklin Gothic Medium"/>
              </a:rPr>
              <a:t>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ule: CAVD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[C] = Class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[A] = Attribut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[V] = Verb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     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[D] = Data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    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tatement = Window Title is hello world.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2600"/>
            <a:ext cx="8915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Multi-Language Source Code</a:t>
            </a:r>
            <a:endParaRPr b="1" lang="en-US" sz="4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975960"/>
            <a:ext cx="8610480" cy="559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Supernova is a Multi-language where the source code may be written Using (Arabic, English, Mixed...etc) code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-496440">
              <a:lnSpc>
                <a:spcPct val="80000"/>
              </a:lnSpc>
              <a:spcBef>
                <a:spcPts val="15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For example The English program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  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I want window and the window title is wow.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 </a:t>
            </a: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Can be rewritten in Arabic language 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  <a:p>
            <a:pPr marL="496440" indent="0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Franklin Gothic Medium"/>
              </a:rPr>
              <a:t>          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   </a:t>
            </a:r>
            <a:r>
              <a:rPr b="1" lang="en-US" sz="3200" spc="-1" strike="noStrike">
                <a:solidFill>
                  <a:srgbClr val="ffff00"/>
                </a:solidFill>
                <a:latin typeface="Franklin Gothic Medium"/>
              </a:rPr>
              <a:t>.</a:t>
            </a:r>
            <a:r>
              <a:rPr b="1" lang="ar-SA" sz="3200" spc="-1" strike="noStrike">
                <a:solidFill>
                  <a:srgbClr val="ffff00"/>
                </a:solidFill>
                <a:latin typeface="Franklin Gothic Medium"/>
              </a:rPr>
              <a:t>انا اريد نافذة والنافذة تحت عنوان هو واو</a:t>
            </a:r>
            <a:endParaRPr b="0" lang="en-US" sz="3200" spc="-1" strike="noStrike">
              <a:solidFill>
                <a:srgbClr val="ffff00"/>
              </a:solidFill>
              <a:latin typeface="Franklin Gothic Medium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23:57:31Z</dcterms:created>
  <dc:creator/>
  <dc:description/>
  <dc:language>en-US</dc:language>
  <cp:lastModifiedBy>Mahmoud</cp:lastModifiedBy>
  <dcterms:modified xsi:type="dcterms:W3CDTF">2010-05-11T06:31:15Z</dcterms:modified>
  <cp:revision>408</cp:revision>
  <dc:subject/>
  <dc:title>Microsoft®  Visual FoxPro® Roadmap               Sedn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