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6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29.png" ContentType="image/png"/>
  <Override PartName="/ppt/media/image6.png" ContentType="image/png"/>
  <Override PartName="/ppt/media/image36.png" ContentType="image/png"/>
  <Override PartName="/ppt/media/image12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30.png" ContentType="image/png"/>
  <Override PartName="/ppt/media/image37.jpeg" ContentType="image/jpeg"/>
  <Override PartName="/ppt/media/image33.jpeg" ContentType="image/jpeg"/>
  <Override PartName="/ppt/media/image45.png" ContentType="image/png"/>
  <Override PartName="/ppt/media/image32.jpeg" ContentType="image/jpeg"/>
  <Override PartName="/ppt/media/image38.jpeg" ContentType="image/jpeg"/>
  <Override PartName="/ppt/media/image46.png" ContentType="image/png"/>
  <Override PartName="/ppt/media/image48.jpeg" ContentType="image/jpeg"/>
  <Override PartName="/ppt/media/image53.jpeg" ContentType="image/jpeg"/>
  <Override PartName="/ppt/media/image31.png" ContentType="image/png"/>
  <Override PartName="/ppt/media/image47.jpeg" ContentType="image/jpeg"/>
  <Override PartName="/ppt/media/image55.png" ContentType="image/png"/>
  <Override PartName="/ppt/media/image56.png" ContentType="image/png"/>
  <Override PartName="/ppt/media/image40.jpeg" ContentType="image/jpeg"/>
  <Override PartName="/ppt/media/image44.png" ContentType="image/png"/>
  <Override PartName="/ppt/media/image13.jpeg" ContentType="image/jpeg"/>
  <Override PartName="/ppt/media/image5.png" ContentType="image/png"/>
  <Override PartName="/ppt/media/image43.jpeg" ContentType="image/jpeg"/>
  <Override PartName="/ppt/media/image9.png" ContentType="image/png"/>
  <Override PartName="/ppt/media/image39.png" ContentType="image/png"/>
  <Override PartName="/ppt/media/image11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54.png" ContentType="image/png"/>
  <Override PartName="/ppt/media/image34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</p:sldIdLst>
  <p:sldSz cx="9144000" cy="6858000"/>
  <p:notesSz cx="6858000" cy="9266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2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12760" y="694800"/>
            <a:ext cx="4633920" cy="347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80092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80092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7966FF3-6B44-4FD7-B22E-6F37B0FE2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12760" y="6951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A10DFBD-BA05-4F88-945A-F704F181F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2905-9FAF-44F2-82AF-83C0BA63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7597-EE6F-4B74-975E-B9B547FC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945D-F7F1-42DD-AB22-C25CF78A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C853-3325-42DD-9979-FE134B03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C4DA-2538-4A20-8645-7BD6BDD4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55FE-2EA0-491D-8210-744A876B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F167-624E-456F-92CD-AD975408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9CE7-B264-4320-B17E-9262DD9E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6609-4D5A-4195-A28E-60EC3307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49E7-9624-4178-92C0-70413A6A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2BFD-3076-4510-B349-505F0A2A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0115-4954-4D71-95F4-020EB121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184F-49AD-4715-8606-15414F03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DE2F-F626-4866-ADC2-60A7579E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03D1-5BC6-4A17-8F31-94329816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385D-27D2-4529-B603-6D51FCC6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E4E0-41E6-4470-A00F-6BC44113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5CCD2-B7FB-497B-94E1-78169733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0858F-0DE3-43D3-8586-8EB006D2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A854B-BCF7-453F-8021-C3EEB3C4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D37B4-9B38-494F-8D03-B289050A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89EF9-1156-4EF6-AC1C-3A3B95FB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6B81-7461-40FA-982B-C4E5ED5E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1DCA1-B4F8-4FB9-907B-083CC75F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028AD-2774-47A3-AD10-3EEFC3BE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9F942-DD40-4D46-AF54-84CECB28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6AA67-93AE-43C6-8CCF-AFF16C1F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FB257-2656-48A1-81F4-B339F309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5ECDC-FCB7-4A26-A656-41FE4E37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99907-1DCD-42D8-9D96-938CA0D0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691E2-FC2D-42B4-9259-8A3471E6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AC40F-446D-40FB-B635-68A01BE2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45C01-7552-499E-91BF-62F1703D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51B8-03F6-44F7-B67F-E8886BB2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8102F-7D2B-45C2-B67E-2409A6FB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5506E-78F0-4587-9C91-430E7220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53E5D-E9C9-406A-93DF-8858BA69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24603-9C53-47A1-B6BA-7A7BFD0F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2842D-6890-4CDE-9A7E-C7D79768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16B5D-02F2-4B4E-8871-8D7A95AC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084A4-8729-487B-97B9-36576134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3B517-CD45-43AB-A85E-5E7A3C76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DC08F-F943-4353-9C30-AC918690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E0B6A-C271-49D0-8364-CD24E62E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6E15-8FB8-45CA-B1D7-156E9692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658E4-BFEF-433D-9C59-D7710746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64D6C-8136-4CC8-B503-91E1AE4D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547BC-680B-4559-B5DE-79893A44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DF9B4-1B94-4755-A304-0C6D2C65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7EE16-AA28-4AD3-A1CB-140DFA6F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23FA8-0A48-49A9-A81D-F5BB0266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D10A3-377B-44D7-9B52-95B0AE7F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8B739-4983-4451-B54A-B181F7CD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969F6-0458-403A-AE0D-E0199228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7B9BC-09B2-4DFF-87C0-151A63BA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378F-0CDD-4FF9-8EFB-3079059C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1CC28-A618-4538-9A76-C1A980D5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FAEFB-5197-4EFF-9467-57A47CE9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C71EE-C354-48C1-9335-EF712972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23940-2FD3-4BB0-946D-C09FCAD4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50182-B3FB-4692-875E-528AAEBC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8EE67-6FAE-4048-B3FD-39172ACD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EEB9E-F365-492B-BB32-14A4EEBE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18386-FEB6-485E-A5E8-0F07EBDA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FE772-2ADF-4B76-8503-B5F74F93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E6D3A-E45D-4E79-9988-CF454362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CAD0-D54E-40D9-84E7-ACBAB744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74550-5309-49B4-839C-FFBA6B0E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95DF7-44A3-4DBE-9D2E-5A95D9A1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2AD2A-18DB-45C7-8FD0-5DD29E3B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45AF-5FF5-4349-A833-137D6B87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3767-61BC-4CC9-8CC4-E01FF7CE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6930-2291-4F52-9315-28FD5C0E509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0" descr="JACOBSLOGO"/>
          <p:cNvPicPr/>
          <p:nvPr/>
        </p:nvPicPr>
        <p:blipFill>
          <a:blip r:embed="rId3"/>
          <a:srcRect l="0" t="7612" r="81120" b="2444"/>
          <a:stretch/>
        </p:blipFill>
        <p:spPr>
          <a:xfrm>
            <a:off x="8305920" y="6095880"/>
            <a:ext cx="511200" cy="46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" name="Picture 20" descr="JACOBSLOGO"/>
          <p:cNvPicPr/>
          <p:nvPr/>
        </p:nvPicPr>
        <p:blipFill>
          <a:blip r:embed="rId3"/>
          <a:srcRect l="0" t="7612" r="81120" b="2444"/>
          <a:stretch/>
        </p:blipFill>
        <p:spPr>
          <a:xfrm>
            <a:off x="8305920" y="6095880"/>
            <a:ext cx="511200" cy="4636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Text Box 24"/>
          <p:cNvSpPr/>
          <p:nvPr/>
        </p:nvSpPr>
        <p:spPr>
          <a:xfrm>
            <a:off x="380880" y="22860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Picture 27" descr="JACOBSLOGO"/>
          <p:cNvPicPr/>
          <p:nvPr/>
        </p:nvPicPr>
        <p:blipFill>
          <a:blip r:embed="rId4"/>
          <a:srcRect l="0" t="7612" r="81120" b="2444"/>
          <a:stretch/>
        </p:blipFill>
        <p:spPr>
          <a:xfrm>
            <a:off x="8305920" y="6095880"/>
            <a:ext cx="511200" cy="463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B58C-8237-45E6-9D33-68E3FA0C5E2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Picture 20" descr="JACOBSLOGO"/>
          <p:cNvPicPr/>
          <p:nvPr/>
        </p:nvPicPr>
        <p:blipFill>
          <a:blip r:embed="rId3"/>
          <a:srcRect l="0" t="7612" r="81120" b="2444"/>
          <a:stretch/>
        </p:blipFill>
        <p:spPr>
          <a:xfrm>
            <a:off x="8305920" y="6095880"/>
            <a:ext cx="511200" cy="4636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0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F0C9-7B73-442C-AEBB-EEB87EF2A4D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20" descr="JACOBSLOGO"/>
          <p:cNvPicPr/>
          <p:nvPr/>
        </p:nvPicPr>
        <p:blipFill>
          <a:blip r:embed="rId3"/>
          <a:srcRect l="0" t="7612" r="81120" b="2444"/>
          <a:stretch/>
        </p:blipFill>
        <p:spPr>
          <a:xfrm>
            <a:off x="8305920" y="6095880"/>
            <a:ext cx="511200" cy="4636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2DA3-ADC5-499E-8C07-9F77DC3C18B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20" descr="JACOBSLOGO"/>
          <p:cNvPicPr/>
          <p:nvPr/>
        </p:nvPicPr>
        <p:blipFill>
          <a:blip r:embed="rId3"/>
          <a:srcRect l="0" t="7612" r="81120" b="2444"/>
          <a:stretch/>
        </p:blipFill>
        <p:spPr>
          <a:xfrm>
            <a:off x="8305920" y="6095880"/>
            <a:ext cx="511200" cy="4636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836A-7982-4710-93D5-C65D044CCB6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20" descr="JACOBSLOGO"/>
          <p:cNvPicPr/>
          <p:nvPr/>
        </p:nvPicPr>
        <p:blipFill>
          <a:blip r:embed="rId3"/>
          <a:srcRect l="0" t="7612" r="81120" b="2444"/>
          <a:stretch/>
        </p:blipFill>
        <p:spPr>
          <a:xfrm>
            <a:off x="8305920" y="6095880"/>
            <a:ext cx="511200" cy="4636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0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0B3F-B5BB-4BF5-B8E2-F34F6B45331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2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image" Target="../media/image53.jpeg"/><Relationship Id="rId5" Type="http://schemas.openxmlformats.org/officeDocument/2006/relationships/image" Target="../media/image2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762120" y="195120"/>
            <a:ext cx="7437240" cy="16401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10"/>
          <p:cNvSpPr/>
          <p:nvPr/>
        </p:nvSpPr>
        <p:spPr>
          <a:xfrm>
            <a:off x="3733920" y="44197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2f2f2"/>
                </a:solidFill>
                <a:latin typeface="Tahoma"/>
                <a:cs typeface="Tahoma"/>
              </a:rPr>
              <a:t>سامر سحتو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4724280" y="571500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جامعة دمش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/20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685800" y="19810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  <a:cs typeface="Tahoma"/>
              </a:rPr>
              <a:t>استخدام طرائق الرص العميق لتحسين الترب القابلة للتمي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838080" y="32004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lementation of Deep Compaction Techniques for Liquefiable Soil Remed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Picture 8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أضرا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رفع للأعلى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فوران الترب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4" descr="C:\Documents and Settings\moffatbs\My Documents\My Pictures\images.jpg"/>
          <p:cNvPicPr/>
          <p:nvPr/>
        </p:nvPicPr>
        <p:blipFill>
          <a:blip r:embed="rId2"/>
          <a:stretch/>
        </p:blipFill>
        <p:spPr>
          <a:xfrm>
            <a:off x="5257800" y="4038480"/>
            <a:ext cx="2743200" cy="20512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C:\Documents and Settings\moffatbs\My Documents\My Pictures\liquefactionconcretetank.jpg"/>
          <p:cNvPicPr/>
          <p:nvPr/>
        </p:nvPicPr>
        <p:blipFill>
          <a:blip r:embed="rId3"/>
          <a:stretch/>
        </p:blipFill>
        <p:spPr>
          <a:xfrm>
            <a:off x="1219320" y="3733920"/>
            <a:ext cx="3733560" cy="2479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C:\Documents and Settings\moffatbs\My Documents\My Pictures\sandboil12.jpg"/>
          <p:cNvPicPr/>
          <p:nvPr/>
        </p:nvPicPr>
        <p:blipFill>
          <a:blip r:embed="rId4"/>
          <a:srcRect l="0" t="0" r="4514" b="6403"/>
          <a:stretch/>
        </p:blipFill>
        <p:spPr>
          <a:xfrm>
            <a:off x="1905120" y="1905120"/>
            <a:ext cx="3276360" cy="21920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damascus logo.jpg"/>
          <p:cNvPicPr/>
          <p:nvPr/>
        </p:nvPicPr>
        <p:blipFill>
          <a:blip r:embed="rId5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36" name="Slide Number Placeholder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7924-46E3-42EA-9272-B546E3BFEF30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Rectangle 2050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أضرا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نقصان قدرة تحمل الترب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هبوط الزائد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و التفاضلي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2052" descr="C:\Documents and Settings\moffatbs\My Documents\My Pictures\portdam.jpg"/>
          <p:cNvPicPr/>
          <p:nvPr/>
        </p:nvPicPr>
        <p:blipFill>
          <a:blip r:embed="rId2"/>
          <a:stretch/>
        </p:blipFill>
        <p:spPr>
          <a:xfrm>
            <a:off x="1066680" y="4648320"/>
            <a:ext cx="2819520" cy="18763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053" descr="C:\Documents and Settings\moffatbs\My Documents\My Pictures\tiltedbuilding2.jpg"/>
          <p:cNvPicPr/>
          <p:nvPr/>
        </p:nvPicPr>
        <p:blipFill>
          <a:blip r:embed="rId3"/>
          <a:srcRect l="0" t="0" r="5253" b="6742"/>
          <a:stretch/>
        </p:blipFill>
        <p:spPr>
          <a:xfrm>
            <a:off x="1371600" y="15238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055" descr="C:\Documents and Settings\moffatbs\My Documents\My Pictures\liquef_2.jpg"/>
          <p:cNvPicPr/>
          <p:nvPr/>
        </p:nvPicPr>
        <p:blipFill>
          <a:blip r:embed="rId4"/>
          <a:srcRect l="1693" t="44364" r="55070" b="6470"/>
          <a:stretch/>
        </p:blipFill>
        <p:spPr>
          <a:xfrm>
            <a:off x="3657600" y="3429000"/>
            <a:ext cx="2249640" cy="18367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damascus logo.jpg"/>
          <p:cNvPicPr/>
          <p:nvPr/>
        </p:nvPicPr>
        <p:blipFill>
          <a:blip r:embed="rId5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43" name="Slide Number Placeholder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B701-73EC-44E5-93F1-7BE03ABCE1BE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ea typeface="Tahoma"/>
              </a:rPr>
              <a:t>”ابتعد“ – هجر الموقع؛ عدم البناء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ea typeface="Tahoma"/>
              </a:rPr>
              <a:t>”الموافقة“ – دفع تكاليف الصيان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ea typeface="Tahoma"/>
              </a:rPr>
              <a:t>”التأقلم“ – إنشائي؛ جيوتكنيك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D140-9F86-47E2-959E-75CD22CF2F75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إنشائيا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طاوعة إضاف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ساند مرن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أوتاد ضخمة أو قيصونات قادرة على تحمل القوى الجانب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أساسات ذات صلادة عال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ربط الأساسات المنفردة مع بعضها لزيادة صلادتها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Picture 9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51" name="Slide Number Placeholder 10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BEA3-0608-4938-8061-840717D813DC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جيوتكنيكيا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ستبدال الترب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رص بالاهتزا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استبدال بالاهتزا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رص الديناميكي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رص بالتفجي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أنظمة تصريف المياه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55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CE25-176C-43BC-9C69-FCB00D4D12D4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ستبدال الترب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Picture 4" descr="C:\Documents and Settings\moffatbs\My Documents\My Pictures\23.jpg"/>
          <p:cNvPicPr/>
          <p:nvPr/>
        </p:nvPicPr>
        <p:blipFill>
          <a:blip r:embed="rId2"/>
          <a:srcRect l="0" t="23471" r="0" b="0"/>
          <a:stretch/>
        </p:blipFill>
        <p:spPr>
          <a:xfrm>
            <a:off x="3886200" y="3048120"/>
            <a:ext cx="4800600" cy="2743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C:\Documents and Settings\moffatbs\My Documents\My Pictures\CAW7IJ6J.jpg"/>
          <p:cNvPicPr/>
          <p:nvPr/>
        </p:nvPicPr>
        <p:blipFill>
          <a:blip r:embed="rId3"/>
          <a:stretch/>
        </p:blipFill>
        <p:spPr>
          <a:xfrm>
            <a:off x="1447920" y="50292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C:\Documents and Settings\moffatbs\My Documents\My Pictures\test.jpg"/>
          <p:cNvPicPr/>
          <p:nvPr/>
        </p:nvPicPr>
        <p:blipFill>
          <a:blip r:embed="rId4"/>
          <a:stretch/>
        </p:blipFill>
        <p:spPr>
          <a:xfrm>
            <a:off x="1066680" y="1828800"/>
            <a:ext cx="3017880" cy="27655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8" descr="damascus logo.jpg"/>
          <p:cNvPicPr/>
          <p:nvPr/>
        </p:nvPicPr>
        <p:blipFill>
          <a:blip r:embed="rId5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62" name="Slide Number Placeholder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D938-9D2E-462B-B533-33DE74AE8A3D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6854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قابلية التطبيق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المساحات الصغير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الأعماق القليل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فوائد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انتفاء إمكانية حدوث التميع مجددا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السرع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سلبيات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طريقة غير صديقة للبيئ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أحجام ترحيل وجلب كبير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تزداد الكلفة كلما ازداد العمق و المساح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66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40BC-0424-4786-8618-F891E1B50FAB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رص بالاهتزاز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ibro-Compa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371484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0" name="Picture 4" descr="dry1"/>
          <p:cNvPicPr/>
          <p:nvPr/>
        </p:nvPicPr>
        <p:blipFill>
          <a:blip r:embed="rId2"/>
          <a:stretch/>
        </p:blipFill>
        <p:spPr>
          <a:xfrm>
            <a:off x="1066680" y="2819520"/>
            <a:ext cx="2219400" cy="25146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7"/>
          <p:cNvSpPr/>
          <p:nvPr/>
        </p:nvSpPr>
        <p:spPr>
          <a:xfrm>
            <a:off x="375768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2" name="Picture 6" descr="dry2"/>
          <p:cNvPicPr/>
          <p:nvPr/>
        </p:nvPicPr>
        <p:blipFill>
          <a:blip r:embed="rId3"/>
          <a:stretch/>
        </p:blipFill>
        <p:spPr>
          <a:xfrm>
            <a:off x="3657600" y="3733920"/>
            <a:ext cx="2251080" cy="251460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9"/>
          <p:cNvSpPr/>
          <p:nvPr/>
        </p:nvSpPr>
        <p:spPr>
          <a:xfrm>
            <a:off x="376704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4" name="Picture 8" descr="dry3"/>
          <p:cNvPicPr/>
          <p:nvPr/>
        </p:nvPicPr>
        <p:blipFill>
          <a:blip r:embed="rId4"/>
          <a:stretch/>
        </p:blipFill>
        <p:spPr>
          <a:xfrm>
            <a:off x="6248520" y="2819520"/>
            <a:ext cx="2225520" cy="25146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10"/>
          <p:cNvSpPr/>
          <p:nvPr/>
        </p:nvSpPr>
        <p:spPr>
          <a:xfrm>
            <a:off x="838080" y="54864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إدخال مسبر الاهتزا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3733920" y="32767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إضافة المواد المالئة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12"/>
          <p:cNvSpPr/>
          <p:nvPr/>
        </p:nvSpPr>
        <p:spPr>
          <a:xfrm>
            <a:off x="6172200" y="54100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إنتهاء تشكيل العمود الرمل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6" descr="damascus logo.jpg"/>
          <p:cNvPicPr/>
          <p:nvPr/>
        </p:nvPicPr>
        <p:blipFill>
          <a:blip r:embed="rId5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79" name="Slide Number Placeholder 17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B913-4D17-4DD0-AA8E-B41CB092E7CB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000" spc="-1" strike="noStrike">
                <a:solidFill>
                  <a:srgbClr val="000000"/>
                </a:solidFill>
                <a:latin typeface="Corbel"/>
                <a:cs typeface="Tahoma"/>
              </a:rPr>
              <a:t>قابلية التطبي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الترب الحبيبية العميقة ضعيفة التماسك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يصل العمق الفعال للرص حتى 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30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 متر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الترب التي تحوي على نسبة من النواعم لاتزيد عن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 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12-15%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مدى الاهتزاز عادة 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2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5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 دقائق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الاهتزاز الأفقي أفضل من الاهتزاز الشاقولي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الكثافة النسبية التي يمكن الوصول لها 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70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90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%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2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83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35B2-3986-4661-90F1-FE951F204045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000" spc="-1" strike="noStrike">
                <a:solidFill>
                  <a:srgbClr val="000000"/>
                </a:solidFill>
                <a:latin typeface="Corbel"/>
                <a:cs typeface="Tahoma"/>
              </a:rPr>
              <a:t>الفوائد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لا تترافق مع موجات صدم مؤذية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تؤمن التراص الدائم (حل جذري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اقتصادية و فعالة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000" spc="-1" strike="noStrike">
                <a:solidFill>
                  <a:srgbClr val="000000"/>
                </a:solidFill>
                <a:latin typeface="Corbel"/>
                <a:cs typeface="Tahoma"/>
              </a:rPr>
              <a:t>العيوب أو السلبيات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لابد من توفر حد أدنى من الضغط الشاقولي في التربة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(تربة عميقة نسبياً يعتمد على الجاذبية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مدى الانتشار الصغير (تتطلب عدد كبير من السبور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لاتؤمن الأعمدة الرملية أي تقوية للتربة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6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87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7F87-FD05-4812-9979-F85992675B87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تزايد السكان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رتفاع أسعار الأراض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مخاطر التأسيس على هذا النوع من الترب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1" name="Picture 3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AFD2-4B56-43F5-9B43-37E2C9390774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450720" y="-30240"/>
            <a:ext cx="8517240" cy="14511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1066320" y="19810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عتبارات تطبيقي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ادة الردم ذات تدرج حبي جيد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دى التأثير لا يتجاوز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3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6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سم حول المسب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تباعدات بشكل عام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5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30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سم من المرك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0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91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C345-3075-4828-A98B-762FDFCD4F50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393" name="Vibro Compaction.wmv" descr=""/>
          <p:cNvPicPr/>
          <p:nvPr/>
        </p:nvPicPr>
        <p:blipFill>
          <a:blip r:embed="rId2"/>
          <a:stretch/>
        </p:blipFill>
        <p:spPr>
          <a:xfrm>
            <a:off x="2838600" y="1801800"/>
            <a:ext cx="3466800" cy="4572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damascus logo.jpg"/>
          <p:cNvPicPr/>
          <p:nvPr/>
        </p:nvPicPr>
        <p:blipFill>
          <a:blip r:embed="rId3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95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4E9A-8EB2-4DFC-B76C-04C202F0AD15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استبدال بالاهتزاز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ibro-Replac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371484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375768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376704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914400" y="4648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إدخال رأس الاهتزا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6553080" y="57913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تشكل العمود الحجر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14"/>
          <p:cNvSpPr/>
          <p:nvPr/>
        </p:nvSpPr>
        <p:spPr>
          <a:xfrm>
            <a:off x="398160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4" name="Picture 13" descr="wettop1"/>
          <p:cNvPicPr/>
          <p:nvPr/>
        </p:nvPicPr>
        <p:blipFill>
          <a:blip r:embed="rId2"/>
          <a:stretch/>
        </p:blipFill>
        <p:spPr>
          <a:xfrm>
            <a:off x="990720" y="2666880"/>
            <a:ext cx="1584360" cy="198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6"/>
          <p:cNvSpPr/>
          <p:nvPr/>
        </p:nvSpPr>
        <p:spPr>
          <a:xfrm>
            <a:off x="398628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6" name="Picture 15" descr="wettop2"/>
          <p:cNvPicPr/>
          <p:nvPr/>
        </p:nvPicPr>
        <p:blipFill>
          <a:blip r:embed="rId3"/>
          <a:stretch/>
        </p:blipFill>
        <p:spPr>
          <a:xfrm>
            <a:off x="2819520" y="2971800"/>
            <a:ext cx="1582560" cy="198108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18"/>
          <p:cNvSpPr/>
          <p:nvPr/>
        </p:nvSpPr>
        <p:spPr>
          <a:xfrm>
            <a:off x="397656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8" name="Picture 17" descr="wettop3"/>
          <p:cNvPicPr/>
          <p:nvPr/>
        </p:nvPicPr>
        <p:blipFill>
          <a:blip r:embed="rId4"/>
          <a:stretch/>
        </p:blipFill>
        <p:spPr>
          <a:xfrm>
            <a:off x="4648320" y="3352680"/>
            <a:ext cx="1619280" cy="198144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20"/>
          <p:cNvSpPr/>
          <p:nvPr/>
        </p:nvSpPr>
        <p:spPr>
          <a:xfrm>
            <a:off x="398628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0" name="Picture 19" descr="wettop4"/>
          <p:cNvPicPr/>
          <p:nvPr/>
        </p:nvPicPr>
        <p:blipFill>
          <a:blip r:embed="rId5"/>
          <a:stretch/>
        </p:blipFill>
        <p:spPr>
          <a:xfrm>
            <a:off x="6553080" y="3733920"/>
            <a:ext cx="1592280" cy="198108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23"/>
          <p:cNvSpPr/>
          <p:nvPr/>
        </p:nvSpPr>
        <p:spPr>
          <a:xfrm>
            <a:off x="2743200" y="49528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تشكيل الحفرة بضخ الهواء او الما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Text Box 24"/>
          <p:cNvSpPr/>
          <p:nvPr/>
        </p:nvSpPr>
        <p:spPr>
          <a:xfrm>
            <a:off x="4648320" y="5410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إضافة مادة الرد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3" name="Picture 23" descr="damascus logo.jpg"/>
          <p:cNvPicPr/>
          <p:nvPr/>
        </p:nvPicPr>
        <p:blipFill>
          <a:blip r:embed="rId6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14" name="Slide Number Placeholder 2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2E33-293B-4158-A59F-C4375AA165AE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قابلية التطبي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ترب الناعمة و المتماسك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ترب المشبعة التي تحوي نسبة نواعم أكبر من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2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5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عمق الرص يصل حتى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3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مت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7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18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9707-8D15-42F5-BEF9-B5150E21F733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فوائد و الإيجابيات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أمين تقوية دنيا للترب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شكيل مصارات تصريف إضافية للمياه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زيادة قدرة تحمل التربة على الضغط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قليل الهبوطات المتوقع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زيادة مقاومة القص للترب الغضارية الطر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1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22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6D60-345F-4E4C-BFC8-9FDA8F8BCD74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سلبيات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مكن أن تسد مسارات التصريف و تملئ بالمواد الناعم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لاتعطي أي مقاومة لقوى الرف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لا تفيد في حالات الخث الطري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ft Peat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أو الغضا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ay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فوق حد السيولة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iquid Limi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5" name="Picture 8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26" name="Slide Number Placeholder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BA02-BC8A-4D72-977E-6E6CC7621E5A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1066680" y="19807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عتبارات تطبيقي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جب استخدام مادة ردم ذات تدرج حبي جيد و حبيبات حادة الشكل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تم تجهيز الحفرة إما بالهواء المضغوط أي بضخ الماء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تعمد مدى الفائدة على التباعد بين الحف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أقطار عادة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75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0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سم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دى التأثير يصل إلى أربع أضعاف قطر العمود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9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E954-2602-4D4A-B5EA-CB6B17747CEA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2000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ضخ الماء/ التغذية العلوي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كمية المياه الجارية كبير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359568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4" name="Picture 4" descr="vibro-replacement_2_3_0001"/>
          <p:cNvPicPr/>
          <p:nvPr/>
        </p:nvPicPr>
        <p:blipFill>
          <a:blip r:embed="rId2"/>
          <a:srcRect l="4911" t="948" r="6096" b="3600"/>
          <a:stretch/>
        </p:blipFill>
        <p:spPr>
          <a:xfrm>
            <a:off x="762120" y="1676520"/>
            <a:ext cx="2620800" cy="35496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7"/>
          <p:cNvSpPr/>
          <p:nvPr/>
        </p:nvSpPr>
        <p:spPr>
          <a:xfrm>
            <a:off x="293832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6" name="Picture 6" descr="vibro-replacement_3_2_0001"/>
          <p:cNvPicPr/>
          <p:nvPr/>
        </p:nvPicPr>
        <p:blipFill>
          <a:blip r:embed="rId3"/>
          <a:srcRect l="1654" t="2658" r="1506" b="4421"/>
          <a:stretch/>
        </p:blipFill>
        <p:spPr>
          <a:xfrm>
            <a:off x="3505320" y="3886200"/>
            <a:ext cx="3751200" cy="27702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1" descr="damascus logo.jpg"/>
          <p:cNvPicPr/>
          <p:nvPr/>
        </p:nvPicPr>
        <p:blipFill>
          <a:blip r:embed="rId4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38" name="Slide Number Placeholder 12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0462-6008-4CE9-9492-A437DA66893F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بدائل..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حجر المرصوص (الاستبدال الديناميكي)/ حفر محاطة بقمصان و يتم رمي الأحجار من الأعلى ثم يتم رصها ديناميكا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أعمدة الصغيرة: بقطر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25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35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سم، أسرع في التنفيذ وتعطي توفيراً بالكلفة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2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25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أعمدة الكبيرة: يستعمل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3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4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رؤوس اهتزاز في نفس الوقت و تصل مساحة العمود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0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سم</a:t>
            </a:r>
            <a:r>
              <a:rPr b="0" lang="ar-SY" sz="2800" spc="-1" strike="noStrike" baseline="30000">
                <a:solidFill>
                  <a:srgbClr val="000000"/>
                </a:solidFill>
                <a:latin typeface="Corbel"/>
                <a:ea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41" name="Picture 9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10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0CBB-9EC4-4E57-9466-6F34306ABCE5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444" name="YouTube - Vibro Replacemnt - Top Feed.wmv" descr=""/>
          <p:cNvPicPr/>
          <p:nvPr/>
        </p:nvPicPr>
        <p:blipFill>
          <a:blip r:embed="rId2"/>
          <a:stretch/>
        </p:blipFill>
        <p:spPr>
          <a:xfrm>
            <a:off x="2838600" y="1801800"/>
            <a:ext cx="3466800" cy="45720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damascus logo.jpg"/>
          <p:cNvPicPr/>
          <p:nvPr/>
        </p:nvPicPr>
        <p:blipFill>
          <a:blip r:embed="rId3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46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8230-158F-4A01-B50B-D9AFF76A65F4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0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مقدم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ميع الترب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أضرار و المخاط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تقنيات تقليل الاضرار و المخاط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طرق انشائ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طرق جيوتكنيك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 u="sng">
                <a:solidFill>
                  <a:srgbClr val="c00000"/>
                </a:solidFill>
                <a:uFillTx/>
                <a:latin typeface="Corbel"/>
                <a:cs typeface="Tahoma"/>
              </a:rPr>
              <a:t>طرائق الرص العميق الحقلي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استنتاجات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DE00-634D-4234-B392-74AC898CE2EB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6" name="Picture 4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رص الديناميكي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ynamic Compa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363852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0" name="Picture 4" descr="deepcompac"/>
          <p:cNvPicPr/>
          <p:nvPr/>
        </p:nvPicPr>
        <p:blipFill>
          <a:blip r:embed="rId2"/>
          <a:srcRect l="0" t="0" r="7230" b="4644"/>
          <a:stretch/>
        </p:blipFill>
        <p:spPr>
          <a:xfrm>
            <a:off x="6705720" y="3200400"/>
            <a:ext cx="2203200" cy="281952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7"/>
          <p:cNvSpPr/>
          <p:nvPr/>
        </p:nvSpPr>
        <p:spPr>
          <a:xfrm>
            <a:off x="373860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2" name="Picture 6" descr="dc"/>
          <p:cNvPicPr/>
          <p:nvPr/>
        </p:nvPicPr>
        <p:blipFill>
          <a:blip r:embed="rId3"/>
          <a:stretch/>
        </p:blipFill>
        <p:spPr>
          <a:xfrm>
            <a:off x="457200" y="2895480"/>
            <a:ext cx="1978200" cy="27432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9" descr="C:\Documents and Settings\moffatbs\My Documents\My Pictures\4901.jpg"/>
          <p:cNvPicPr/>
          <p:nvPr/>
        </p:nvPicPr>
        <p:blipFill>
          <a:blip r:embed="rId4"/>
          <a:stretch/>
        </p:blipFill>
        <p:spPr>
          <a:xfrm>
            <a:off x="4648320" y="2666880"/>
            <a:ext cx="1922400" cy="28195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0" descr="C:\Documents and Settings\moffatbs\My Documents\My Pictures\DynamcCompB.jpg"/>
          <p:cNvPicPr/>
          <p:nvPr/>
        </p:nvPicPr>
        <p:blipFill>
          <a:blip r:embed="rId5"/>
          <a:stretch/>
        </p:blipFill>
        <p:spPr>
          <a:xfrm>
            <a:off x="2590920" y="3657600"/>
            <a:ext cx="1969920" cy="27828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3" descr="damascus logo.jpg"/>
          <p:cNvPicPr/>
          <p:nvPr/>
        </p:nvPicPr>
        <p:blipFill>
          <a:blip r:embed="rId6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56" name="Slide Number Placeholder 1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C518-85F5-4A0F-85D2-2EA0B6491125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قابلية التطبي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رمل المخلل، الردميات، مخلفات المناجم، الترب الانخفاسية، مكبات النفايات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صل العمق حتى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2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مت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لاتستخدم عادة في المناطق المأهول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سافة أمان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3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45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متر عن المنشآت المجاور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59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60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5CB5-995B-4567-90AE-AE4E7B092914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609120" y="17524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فوائد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عتبر رخيصة و غير مكلفة نسبيا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عيوب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عدائية جدا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جب العمل على عدة مسارات لتأمين الارتصاص المستم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قد تؤدي إلى موجات صدم على المنشآت المجاور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تطلب المراقبة الجدية و المستمرة للهبوطات في المنشآت المجاور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2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64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F988-86D4-47C1-BB28-885DAFCAE40D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 algn="r" rtl="1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عتبارات تطبيقي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تم السقوط من ارتفاع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36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مت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أوزان تصل إلى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4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طن؛ شكل الوزن ليس له تأثي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لتحديد مسارات الطرق لابد من توفر نتائج التحريات الجيوتكنيكية و خصوصاً وضعية الطبقات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حد الأعلى الاقتصادي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ضربات في الموق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جب دراسة مدى تأثير الاهتزازت على المنشآت المحيط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لابد من وضع برنامج لعمل الرافعات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618D-2264-4678-8373-5FD7225027FA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470" name="YouTube - Dynamic Compaction.wmv" descr=""/>
          <p:cNvPicPr/>
          <p:nvPr/>
        </p:nvPicPr>
        <p:blipFill>
          <a:blip r:embed="rId2"/>
          <a:stretch/>
        </p:blipFill>
        <p:spPr>
          <a:xfrm>
            <a:off x="2838600" y="1801800"/>
            <a:ext cx="3466800" cy="4572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5" descr="damascus logo.jpg"/>
          <p:cNvPicPr/>
          <p:nvPr/>
        </p:nvPicPr>
        <p:blipFill>
          <a:blip r:embed="rId3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72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8835-3BFA-4EB3-9B3A-52E9CCB943FA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6" dur="1" fill="hold"/>
                                        <p:tgtEl>
                                          <p:spTgt spid="4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474" name="Dynamic Compaction2.wmv" descr=""/>
          <p:cNvPicPr/>
          <p:nvPr/>
        </p:nvPicPr>
        <p:blipFill>
          <a:blip r:embed="rId2"/>
          <a:stretch/>
        </p:blipFill>
        <p:spPr>
          <a:xfrm>
            <a:off x="1523880" y="18018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5" descr="damascus logo.jpg"/>
          <p:cNvPicPr/>
          <p:nvPr/>
        </p:nvPicPr>
        <p:blipFill>
          <a:blip r:embed="rId3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76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36CA-6FCF-46F2-B595-B2741177C9D7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2" dur="1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رص بالتفجير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plosive Compa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Rectangle 7"/>
          <p:cNvSpPr/>
          <p:nvPr/>
        </p:nvSpPr>
        <p:spPr>
          <a:xfrm>
            <a:off x="318132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9" name="Picture 10" descr="C:\Documents and Settings\moffatbs\My Documents\My Pictures\Mt%20St%20helens.jpg"/>
          <p:cNvPicPr/>
          <p:nvPr/>
        </p:nvPicPr>
        <p:blipFill>
          <a:blip r:embed="rId1"/>
          <a:stretch/>
        </p:blipFill>
        <p:spPr>
          <a:xfrm>
            <a:off x="4114800" y="3962520"/>
            <a:ext cx="3809880" cy="25905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9" descr="C:\Documents and Settings\moffatbs\My Documents\My Pictures\flash2-pic.jpg"/>
          <p:cNvPicPr/>
          <p:nvPr/>
        </p:nvPicPr>
        <p:blipFill>
          <a:blip r:embed="rId2"/>
          <a:srcRect l="0" t="2305" r="0" b="0"/>
          <a:stretch/>
        </p:blipFill>
        <p:spPr>
          <a:xfrm>
            <a:off x="609480" y="2438280"/>
            <a:ext cx="3733920" cy="2492640"/>
          </a:xfrm>
          <a:prstGeom prst="rect">
            <a:avLst/>
          </a:prstGeom>
          <a:ln w="0">
            <a:noFill/>
          </a:ln>
        </p:spPr>
      </p:pic>
      <p:pic>
        <p:nvPicPr>
          <p:cNvPr id="481" name="Rectangle 2" descr=""/>
          <p:cNvPicPr/>
          <p:nvPr/>
        </p:nvPicPr>
        <p:blipFill>
          <a:blip r:embed="rId3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0" descr="damascus logo.jpg"/>
          <p:cNvPicPr/>
          <p:nvPr/>
        </p:nvPicPr>
        <p:blipFill>
          <a:blip r:embed="rId4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83" name="Slide Number Placeholder 1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A177-6C9B-4D5C-8B20-74C165821488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قابلية التطبي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ترب المخللة، عديمة التماسك، المشبعة بالماء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قابلة للتصريف بشكل ح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فعالية مع العم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6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87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6A21-A874-474D-A72C-6667C2B6103D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فوائد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كلف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عالجة كامل الطبقة القابلة للتمي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حدودة الانتشار ومسيطر عليها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بالتصميم الجيد فإنه يمكن استخدامها فقط ضمن حدود المنشأ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9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91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B94F-2A2A-4785-A6C9-238FF03E11D1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عيوب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وجود نسبة من النواعم في التربة تعيق التصريف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طبقات ذات التماسك تمنع تسريب ضغط الماء الإضافي و تخمد الاهتزازات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عتبارات تطبيقي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أمين وقت فاصل بين كل تفجير و الذي يليه بحدود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دقيق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لابد من تحليل كل طبقات التربة و معرفة خصائصها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93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95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F8A5-2069-49CF-B484-A7919D9A61C8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106632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عندما يختل التوازن الستاتيكي للتربة إما من خلال حمولة متكررة أو تحميل ديناميكي مما يجعل التربة تسلك سلوك اقرب إلى الأوساط السائلة و تبتعد عن كونها جسم صلب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9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CE26-3382-4AA2-9C02-0AC7CCDE058C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تجفي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مضخات العميق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آبار نخفيض الضغط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خناد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أنظمة التصريف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97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9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99" name="Slide Number Placeholder 10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BD02-8554-4CD8-869F-8BA53C591CF5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أنظمة تصريف المياه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01" name="Picture 4" descr="northernwick2"/>
          <p:cNvPicPr/>
          <p:nvPr/>
        </p:nvPicPr>
        <p:blipFill>
          <a:blip r:embed="rId1"/>
          <a:srcRect l="1064" t="530" r="641" b="2167"/>
          <a:stretch/>
        </p:blipFill>
        <p:spPr>
          <a:xfrm>
            <a:off x="609480" y="1752480"/>
            <a:ext cx="4038840" cy="22734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5" descr="C:\Documents and Settings\moffatbs\My Documents\My Pictures\drain_01.jpg"/>
          <p:cNvPicPr/>
          <p:nvPr/>
        </p:nvPicPr>
        <p:blipFill>
          <a:blip r:embed="rId2"/>
          <a:stretch/>
        </p:blipFill>
        <p:spPr>
          <a:xfrm>
            <a:off x="5638680" y="2590920"/>
            <a:ext cx="2527560" cy="38098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6" descr="C:\Documents and Settings\moffatbs\My Documents\My Pictures\Drain_02.bmp"/>
          <p:cNvPicPr/>
          <p:nvPr/>
        </p:nvPicPr>
        <p:blipFill>
          <a:blip r:embed="rId3"/>
          <a:stretch/>
        </p:blipFill>
        <p:spPr>
          <a:xfrm>
            <a:off x="2895480" y="4495680"/>
            <a:ext cx="3048120" cy="20289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7" descr="C:\Documents and Settings\moffatbs\My Documents\My Pictures\Drain_03.jpg"/>
          <p:cNvPicPr/>
          <p:nvPr/>
        </p:nvPicPr>
        <p:blipFill>
          <a:blip r:embed="rId4"/>
          <a:srcRect l="0" t="0" r="0" b="1312"/>
          <a:stretch/>
        </p:blipFill>
        <p:spPr>
          <a:xfrm>
            <a:off x="304920" y="3809880"/>
            <a:ext cx="2836800" cy="1978200"/>
          </a:xfrm>
          <a:prstGeom prst="rect">
            <a:avLst/>
          </a:prstGeom>
          <a:ln w="0">
            <a:noFill/>
          </a:ln>
        </p:spPr>
      </p:pic>
      <p:pic>
        <p:nvPicPr>
          <p:cNvPr id="505" name="Rectangle 2" descr=""/>
          <p:cNvPicPr/>
          <p:nvPr/>
        </p:nvPicPr>
        <p:blipFill>
          <a:blip r:embed="rId5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1" descr="damascus logo.jpg"/>
          <p:cNvPicPr/>
          <p:nvPr/>
        </p:nvPicPr>
        <p:blipFill>
          <a:blip r:embed="rId6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507" name="Slide Number Placeholder 12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1637-9876-4D6C-88CA-FBA931437EEA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 txBox="1"/>
          <p:nvPr/>
        </p:nvSpPr>
        <p:spPr>
          <a:xfrm>
            <a:off x="990360" y="188136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فوائد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إلغاء قابلية التمي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قصير طول مسار التصريف الطبيعي و دعمه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سريعة التنفي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عيوب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في حال الهزات الشديدة قد تكون سرعة التصريف أقل من سرعة تولد الضغط المسامي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لابد من حصول الهبوطات؛ تأمين المطاوعة الكافية إنشائيا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تطلب نظام تصريف ثانوي سطحي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10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511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8158-88C6-4A3E-A5EF-9EBB5B12BDF7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عتبارات تطبيقي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عادة ما تستعمل مع طريقة أخرى من المذكورين سابقا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نفاذية المصرف يجب أن تكون أكبر من نفاذية الترب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جب أن نضمن عملها من خلال تصميمها بفراغات لايمكن أن تسد بحيبات التربة و تسمح للحبيبات الناعمة بالمرو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لابد من اختبارها و التأكد من عدم انسدادها اثناء التنفي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13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515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2C73-4B18-43B0-AC92-11FE98A96A5D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 txBox="1"/>
          <p:nvPr/>
        </p:nvSpPr>
        <p:spPr>
          <a:xfrm>
            <a:off x="1066320" y="198072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عوامل المؤثر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خصائص التربة في الموق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سهولة التنفي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أثر البيئي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تأثيرات على المنشآت المجاور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نوع المنشأ و أهميته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عمق المطلوب معالجته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كلفة الاقتصاد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18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3224-DB0E-4253-A28D-16FD5FC07D98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اجراءات الواجب اتباعها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جب اجراء التجارب الحقلية قبل و بعد اجراء المعالجة و ذلك لمعرفة مقدار التحسين الحاصل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تجربة الاختراق النظامية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P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تجربة اختراق المخروط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P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تجارب التحميل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ن المهم إجراء التحريات و الاختبارات الجيوتكنيكية اللازمة للموقع قبل اختيار طريقة المعالجة للترب القابلة للتميع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8A8A-E432-425C-9FA4-7082E6677CBD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2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rbel"/>
              </a:rPr>
              <a:t>Practical Foundation Engineering Handbook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, Brown, Robert Wade, McGraw-Hill, Inc., New York, NY 1995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rbel"/>
              </a:rPr>
              <a:t>Soil Remediation Techniques for Reduction of Earthquake-Induced Liquefaction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rbel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 Barbara S. Moffat, PE,  Jacobs Civil Inc. American Society of </a:t>
            </a:r>
            <a:r>
              <a:rPr b="0" i="1" lang="en-US" sz="2500" spc="-1" strike="noStrike">
                <a:solidFill>
                  <a:srgbClr val="000000"/>
                </a:solidFill>
                <a:latin typeface="Corbel"/>
              </a:rPr>
              <a:t>Civil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Engineers2006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rbel"/>
              </a:rPr>
              <a:t>Handbook on Liquefaction Remediation of Reclaimed Land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i="1" lang="en-US" sz="2500" spc="-1" strike="noStrike">
                <a:solidFill>
                  <a:srgbClr val="000000"/>
                </a:solidFill>
                <a:latin typeface="Corbel"/>
              </a:rPr>
              <a:t>Edited by Port and Harbour Research Institute, Ministry of Transport, Japan; Translated by US Army Corps of Engineers, USA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, A.A.Balkema, Rotterdam, Netherlands (1997)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rtl="1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26" name="Picture 4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52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A34B-42F6-4CF9-8D83-8B943883DABD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Corbel"/>
              </a:rPr>
              <a:t>???</a:t>
            </a:r>
            <a:endParaRPr b="0" lang="en-US" sz="9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29" name="Picture 5" descr="damascus logo.jpg"/>
          <p:cNvPicPr/>
          <p:nvPr/>
        </p:nvPicPr>
        <p:blipFill>
          <a:blip r:embed="rId1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530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1FC2-469A-4815-933C-0C620F86EA61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C:\Documents and Settings\moffatbs\My Documents\My Pictures\mw_LithostaticVsPorePres.gif"/>
          <p:cNvPicPr/>
          <p:nvPr/>
        </p:nvPicPr>
        <p:blipFill>
          <a:blip r:embed="rId2"/>
          <a:stretch/>
        </p:blipFill>
        <p:spPr>
          <a:xfrm>
            <a:off x="4800600" y="21337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C:\Documents and Settings\moffatbs\My Documents\My Pictures\mw_PorePres.gif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1143000" y="21337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5"/>
          <p:cNvSpPr/>
          <p:nvPr/>
        </p:nvSpPr>
        <p:spPr>
          <a:xfrm>
            <a:off x="1447920" y="57150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ضغط الماء المسام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5257800" y="5715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قوى التماس بين الحبيبات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6" name="Picture 8" descr="damascus logo.jpg"/>
          <p:cNvPicPr/>
          <p:nvPr/>
        </p:nvPicPr>
        <p:blipFill>
          <a:blip r:embed="rId4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07" name="Slide Number Placeholder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5531-0E0F-4F64-9353-0BE26966E6FA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4"/>
          <p:cNvSpPr/>
          <p:nvPr/>
        </p:nvSpPr>
        <p:spPr>
          <a:xfrm>
            <a:off x="1508040" y="3886200"/>
            <a:ext cx="329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0" name="Picture 30" descr="C:\Documents and Settings\moffatbs\My Documents\My Pictures\slide3.jpg"/>
          <p:cNvPicPr/>
          <p:nvPr/>
        </p:nvPicPr>
        <p:blipFill>
          <a:blip r:embed="rId2"/>
          <a:srcRect l="-176" t="-20192" r="-1185" b="-5364"/>
          <a:stretch/>
        </p:blipFill>
        <p:spPr>
          <a:xfrm>
            <a:off x="1600200" y="2514600"/>
            <a:ext cx="6629400" cy="3054240"/>
          </a:xfrm>
          <a:prstGeom prst="rect">
            <a:avLst/>
          </a:prstGeom>
          <a:ln w="0">
            <a:noFill/>
          </a:ln>
        </p:spPr>
      </p:pic>
      <p:sp>
        <p:nvSpPr>
          <p:cNvPr id="311" name="Oval 47"/>
          <p:cNvSpPr/>
          <p:nvPr/>
        </p:nvSpPr>
        <p:spPr>
          <a:xfrm>
            <a:off x="5715000" y="2438280"/>
            <a:ext cx="1981080" cy="2057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2" name="Picture 7" descr="damascus logo.jpg"/>
          <p:cNvPicPr/>
          <p:nvPr/>
        </p:nvPicPr>
        <p:blipFill>
          <a:blip r:embed="rId3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AAE4-C9F8-409E-A890-777CCD3674E1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طبيعة التربة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ature of Soi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مدى كثافة الترب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درجة الإشبا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سعة التحمي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oading Magnitud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السعة اللازمة لكي تبدأ ظاهرة التميع بالظهور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مدى عمق الطبقة القابلة للتمي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نوع الحمولة الديناميكية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ype of Dynamic Load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حمولة فجائية (تفجير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حمولة مستقرة متزايد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17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ED44-22B0-4D59-8854-639ACC7A3353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تحريات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vestig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ركيب الترب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اختبارات الجيوتكنيك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سجل التاريخي للمنطق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تقيي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.S. = CRR / CS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5" descr="C:\Documents and Settings\moffatbs\My Documents\My Pictures\dh4.jpg"/>
          <p:cNvPicPr/>
          <p:nvPr/>
        </p:nvPicPr>
        <p:blipFill>
          <a:blip r:embed="rId2"/>
          <a:stretch/>
        </p:blipFill>
        <p:spPr>
          <a:xfrm>
            <a:off x="1981080" y="2590920"/>
            <a:ext cx="1220760" cy="19047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damascus logo.jpg"/>
          <p:cNvPicPr/>
          <p:nvPr/>
        </p:nvPicPr>
        <p:blipFill>
          <a:blip r:embed="rId3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22" name="Slide Number Placeholder 7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6010-21B6-4215-AC85-514C2F1C06E6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أضرا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وسع جانبي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نهيا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المنحدرات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Picture 4" descr="C:\Documents and Settings\moffatbs\My Documents\My Pictures\Landslide2.jpg"/>
          <p:cNvPicPr/>
          <p:nvPr/>
        </p:nvPicPr>
        <p:blipFill>
          <a:blip r:embed="rId2"/>
          <a:stretch/>
        </p:blipFill>
        <p:spPr>
          <a:xfrm>
            <a:off x="3124080" y="4343400"/>
            <a:ext cx="3200400" cy="2141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C:\Documents and Settings\moffatbs\My Documents\My Pictures\crackhwy.jpg"/>
          <p:cNvPicPr/>
          <p:nvPr/>
        </p:nvPicPr>
        <p:blipFill>
          <a:blip r:embed="rId3"/>
          <a:stretch/>
        </p:blipFill>
        <p:spPr>
          <a:xfrm>
            <a:off x="609480" y="2514600"/>
            <a:ext cx="2895840" cy="2509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C:\Documents and Settings\moffatbs\My Documents\My Pictures\Liquefaction.jpg"/>
          <p:cNvPicPr/>
          <p:nvPr/>
        </p:nvPicPr>
        <p:blipFill>
          <a:blip r:embed="rId4"/>
          <a:stretch/>
        </p:blipFill>
        <p:spPr>
          <a:xfrm>
            <a:off x="2590920" y="1523880"/>
            <a:ext cx="3124080" cy="16718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damascus logo.jpg"/>
          <p:cNvPicPr/>
          <p:nvPr/>
        </p:nvPicPr>
        <p:blipFill>
          <a:blip r:embed="rId5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29" name="Slide Number Placeholder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6205-3E51-4912-8379-6FFD5E953DA2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9:35:52Z</dcterms:created>
  <dc:creator>Bellevue</dc:creator>
  <dc:description/>
  <dc:language>en-US</dc:language>
  <cp:lastModifiedBy>SaMeR</cp:lastModifiedBy>
  <dcterms:modified xsi:type="dcterms:W3CDTF">2010-06-11T01:27:27Z</dcterms:modified>
  <cp:revision>88</cp:revision>
  <dc:subject/>
  <dc:title>RISK MANAGEMENT</dc:title>
</cp:coreProperties>
</file>